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79D-2313-4548-BB52-133DD519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4F7-461F-4BDE-AA7A-E13A2AA8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581E9-2911-4B93-A60B-38BA592E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ACEFE-A21B-4715-9A35-F7FBC5BF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9A584-1A66-48C4-B20C-4C621FBE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E9D64-89F3-4EC2-9B02-31752C73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B9C3B-CCF6-4D90-A323-3AC5D4DE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35D78-5F8B-404E-8E90-187B5352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821ED-380A-4477-935C-101DBBA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747AD-5E4A-4CD2-B4CE-66EF300B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3BB89-9AC0-48F0-AA8E-B9118ED5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5FFFC-A725-44ED-878C-5CFA95C9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04A-275D-4B9F-9465-3591E1BC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ACFC6-851E-43B7-9A3D-476AF91A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8FDA1-4832-45CD-9D6B-547400DA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E3115-4B7E-44C6-88E4-FD5BDBA7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5F9C9-C654-4B07-8BAF-11921E2C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A3F27-7E91-450C-AA32-0B33C989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F5704-97AC-41C2-9812-56AA4D48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DADFB-3D40-4BE7-B9F5-907A0DA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138BB-EF0D-4032-B633-7AD0B0E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2E3FF-95A6-4509-A10A-3CD57E93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94E6D-4BBE-492D-9292-CD3AAC83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402-58D2-4E91-B148-C26A6C0C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9F963-BC87-485D-899D-55910EC3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98CF35-2043-402A-BA66-78C07167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E9BF93-7046-4A77-96F1-8DF4B7A2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BA1385-DFB3-4833-A261-18A9D85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84B220-EC7B-4B37-9CB3-78E7BF89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F4D9E5-32E1-4BE9-AE00-0ECBCFA9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16582D-DCEE-429F-9D76-0A0BB41B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1F79F8-1A85-4819-AB92-12237D0B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1BF006-6DD1-452F-AC53-4AEBB553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2934FD-BC07-4C94-BC61-914C894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F6657-B225-4D18-B407-12D9286C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C9F9AF-0F11-4F46-AFA9-9B6CD029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D5FB03-BB84-4B71-8F5F-10F00CE9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266EED-3856-4BE2-A4E9-5B603882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26634-AA39-4761-852C-CFA7A993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F8C44-F998-4C11-A7ED-23F1E59C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CC523-76BB-4290-974B-F90F94A8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76366-F8F9-4951-A8E3-7CE3CEEC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6BC5E-5F3A-4A9F-BC0C-EDDECF79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86EE7-0E29-49CA-89A5-FD8300CD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36F12-4C32-41CF-9063-E46BEDE1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012F-23B2-4FD8-A846-FEA84B26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7AD49-3F51-449C-A68E-75B37DA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054C8-602F-4C68-8DBE-4258FAF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CCE85-6AE8-4DF0-BB27-FD6B0B6D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4876F-DF36-4FD7-A3CF-7680F73A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A457F-91B1-498F-B3CF-7541FCC8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8583B8-D754-47F0-846A-54BD9E98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A52012-C164-4DD2-B6D8-4057DF2A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FB2F88-D661-4012-B41E-2267348B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4711AE-59FF-4AD1-B899-2B5125B9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EC79E4-E9DD-4603-B311-79F5D5FB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B651C-D54C-4EEB-B46A-BB0D644E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8665AE-C476-457A-8D51-EE6359E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0AF2CF-7C66-4CBF-8418-4700157E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E1C169-E09B-4266-B756-AB6F08CE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95291F-9C15-44EE-83C8-2BADFDA1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C17AA6-6110-4748-8F0B-D752C35E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83BDA2-CC8E-4EED-A6D3-D3C96776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617976-7328-47F5-B358-9B84DCD7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C9C13-C71D-47B6-8629-E0BAE154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30BFD-32CB-4C80-A6D6-DF2522B0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0D86C-10FD-4FE3-B003-7FCB3D3C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CFDC9-D258-4DF3-93D9-CADAFF5D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49B38-12F6-4A47-9757-980988FA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04096-3F8D-4EC7-88AD-B83B48E1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8AB85-5541-42BD-B800-42870002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AD316-CBE3-4E72-BA26-4D3CFA7B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9255D-6747-4503-80D0-DA422B1C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3800D-054E-41BD-A74D-61E73C1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66F44-3D8F-414F-B765-BB64D02A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6C859-A113-4A27-BAC5-DB06F237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AF80F-0C74-4A44-958D-41F99016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F5ADA-9EFB-45E4-AFB9-84FEED72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B4E07-2E22-4FEB-8E2D-51264150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0051E-9C60-4CDC-8375-F86B637C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A57-36A0-4284-821F-C4BE28CF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71567-C7C7-4551-8AEB-00661BDB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022D2-75F0-4415-BBD6-E5C7EC6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3C51D-CA0C-4F33-83C9-24490DEF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710CC-E50A-4AC5-B336-5AC6B35F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70DB3-83F6-4EB8-BDCE-AA09E6B8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87FA-A16E-4400-92B9-86AD9478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2770-A8BC-44C9-B902-F849FE43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C7A4-4796-42FB-9897-D270E6EB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0634-8CB1-4E2C-9549-7056882D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AB44-3829-4570-95DF-4FA6E604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52A-553A-4E94-A288-F55D5051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FA1B-42EF-445A-A7E5-86E2D336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593A-E5EF-4462-B6EC-E8FE7E33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8893-8FEC-4B99-B013-A98BD1FE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2D67-65CD-4041-81D1-F7D9D0E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B2C8-CDAB-491E-97EA-A6D9CBE4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BB81-7F1C-479E-A8C6-4CCCA239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03A8-65FE-4A51-BF95-68479B0C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88D3F-A5D1-4E23-B454-4AAC1803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54CC-09FA-4E5C-85C9-4219553D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6EE9-E1F2-4A03-80FF-3B01C6DB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EF1-D7CB-4F27-BC03-2A3B8A77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EE906-0D72-4113-9256-03032A3F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3FE11-A587-49A7-A848-56AD1A10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8DB3B-6380-40B1-89E0-30FEAC1E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B84C-FA37-4C44-BE14-97EDF0C2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703C-C218-4C31-89FF-AADCB917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40FD1-84D6-4EBB-8D1F-92903BE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85CA3-912C-4E0A-AE84-F46B6E86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62EB-64A2-48E7-BDB2-5962B465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2B2D-136C-4D82-A924-BAEC9045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18F21-FF39-410F-A9D6-FD84AA81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9E4-A178-4367-8DDE-4540A902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D20CD-194E-4EFE-A813-A033BA3D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ECFB-4FB6-45EF-A40C-3678A5CC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76B6-D478-4E16-BC62-8C79C368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4619D-B3E4-45AD-BE9C-3AB94BB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FCB6A-5AF5-4E59-8F26-CC74F2FB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E283-EC88-499C-BABB-FE6DD08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2A0E0-4315-4472-BD22-3B7E2803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4D2EE-1BCA-42F8-9242-3351C3DB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6E37-7FCA-42B6-9B41-F7EAD22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43E1-2799-4AB5-A8FE-5AFC7A13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6E4-AA01-40EB-A196-25946A4E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D27BA-C5F1-4DA2-9D2C-8A43D32E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C4DD2-284B-49A3-B861-45315D9C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31890-E534-4655-9A12-2F83B08A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BE1A-E4D8-4B61-9BC8-A91D15F6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55F70-A7E5-441F-AF77-3CBB463C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51840-33DF-475D-8861-FF9A3931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529BA-03D6-45D6-87A1-0A96206D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97844-82F5-4E6F-874B-E93C832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44A2F-FD04-4CDD-9847-13EC30C3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6E22D-B299-4094-B71B-13B34E8B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950-4AFA-4F91-B5DF-85C992D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7BCB2-1C1E-429A-83CC-9E7A5547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F2B89-86DC-42FB-82E8-7738642E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B41BA-01D2-4AD0-AC49-CFD909E4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B7EA0-759B-4597-A814-6FBB648B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8EBC-631E-4B87-8F7A-1A66CEDB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B477A-0112-466D-9898-584DD8A2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95910-CF1A-4374-88F0-3D0A437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E9ED-413F-42C9-B71E-3453C819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3E4E0-EED8-42B8-918C-6F996B0B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696F3-0EFC-4FF6-92D4-E1169D5A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166-3214-416D-9853-28F1FCCE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A0C78-3484-4D6B-B973-E82F6472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B3C1C-A674-4D9A-92CB-BBD65CE9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43CB3-B3CC-4E34-A331-C3F18036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E0185-AA07-4F55-84E3-20DCF8DE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5CC9-1617-47A1-8559-D7B34CA6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ED7DB1-D162-4B6D-8E4F-C9A9239E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6155D1-46AC-4621-A452-42CE80F5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32CC4-1C47-4AA9-A5CB-1B4C2E6F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70F76-1579-4F15-A26B-019E0196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4FD67E-07EF-41BD-A7AB-534EDF42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D8F-5FC3-46B0-BF03-C49C019C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75B989-FD65-4405-A13E-90803625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EC58A3-CEC4-4B10-967D-2E0DF33F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8F29A-7287-4E43-9BBF-3AA3C6C4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41C57D-52CA-4F55-901C-B56D6C7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866F9A-5842-4336-90E6-8DE2B8CE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0EDB6D-C09F-4AA7-B08D-8FAA25BF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3E3288-1C2E-4154-972A-1E4EAABF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E1175-A6C7-4B23-9BA4-C715F11B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3E108-5E7B-4A35-A70F-962973FD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F5F33-6AD9-4F5E-8978-7651F91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26EC-2F39-457A-B641-AFCEBFA5A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A6AD-EABB-4E2A-A4C9-97C3BD64D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7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3B78-2260-45F0-BD81-D8FA3FA525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E52E-6343-416A-8F35-BD1025CBC5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25DE-D54B-4D02-922B-D78A24D817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9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BF15-2D25-4E32-895E-EE09CAEA9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C6EA-3A9E-435B-BC97-52C8AA7C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7857-A12F-4D7E-8D2A-F22D08D9B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5CB1-3346-4904-ABEB-9FD2A6F0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8D92-24BD-470A-905A-CF4E865D8CE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5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63BA-C599-48B9-9225-F90574CD625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3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3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7DBE-7C18-4D92-A313-AD6A9AB19C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9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9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9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0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8187-541F-497A-8DE2-C1DD54A0BE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5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15FE-A085-4577-9ED4-678D97F5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Khamar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personal learn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239400" y="2558880"/>
            <a:ext cx="866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My Personal Learning 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y learning style is tactile/kinesthic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This means that I  learn best by doing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16000" y="2833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ffff"/>
                </a:solidFill>
                <a:latin typeface="Arial"/>
              </a:rPr>
              <a:t>My Personal Learning 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y learning technique is concrete sequential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That means that I am realistic,orderly,logical and careful of details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4147920" y="432720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2280" y="3351960"/>
            <a:ext cx="85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y intelligence type is physical awar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960" y="373320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This means that I am very well coordin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6120" y="2285280"/>
            <a:ext cx="87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I found out that the left hemisphere of my brain is the same as my right___________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9360" y="2742480"/>
            <a:ext cx="85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and the right hemisphere of my brain is the same as my right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-2405520" y="3246480"/>
            <a:ext cx="247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It’s important to learn how your brain works because if you know how it works you                                                                                                                                                             know what the best way for you to learn is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903960" y="3245760"/>
            <a:ext cx="73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I can use what I have learned about the way my brain works in schoo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 rot="10800000">
            <a:off x="531360" y="4097160"/>
            <a:ext cx="83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I can do this when I  am at 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19:57Z</dcterms:created>
  <dc:creator>student</dc:creator>
  <dc:description/>
  <dc:language>en-US</dc:language>
  <cp:lastModifiedBy>student</cp:lastModifiedBy>
  <dcterms:modified xsi:type="dcterms:W3CDTF">2010-10-27T17:45:31Z</dcterms:modified>
  <cp:revision>6</cp:revision>
  <dc:subject/>
  <dc:title>Khamari</dc:title>
</cp:coreProperties>
</file>